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F7814-0239-4172-9404-BC93DDDA9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chce příjemce předkládat MZ v intervalu po celých měsících (od 1. do 30.) je nutné, abychom mu upravili „hlavičku“ v M7+. Tzn. 5 pracovních dní před skutečných (novým) termínem ukončení monitorovaného období příjemce požádá svého PM O CERA o změnu dat předkládání MZ (mailem). PM potvrdí emailem a upraví v M7+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A5B56-A85F-4768-A910-911FD6955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průkaznou evidenci vedenou příjemc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ýkazy o provedené práci, prezenční listiny, certifikáty, atd. – tj. doklady, kterými můžete prokázat dosažené číselné hodno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3D8D1-DCB8-455E-A822-D81E70652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2E7FD-C6C9-4DAE-BCB2-C09AFA064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, jakým způsobem jste ve sledovaném období informovali cílovou skupinu a širší veřejnost o Vašem projektu a jaké nástroje publicity jste využi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é strá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ištěn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diovizuální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lmov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e,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zerce v médiích (tisk, TV, rozhlas, internet, ostatní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azné aktivity povinné publicity jsou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je součástí MZ Žádost o platbu, popište náklady spojené s povinnou publicit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2149C-7206-43DB-ABDF-5AAA4DF5A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9EFB1-8399-4376-B4EA-416AFA1AF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8530C-B2DA-438B-83EF-7C3656979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77897-F173-4C48-B163-C0FA12FCB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13E35-50C1-41A0-886B-0FFEEC5378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7DE4E-C5B7-4611-9536-9E7E2297A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BB86F-02B1-4CE4-8D5F-11A93B3C0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4FAE6-1CF4-43A9-9AED-6BA3A5226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F201B-AD15-4A3A-94B5-D11972817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97FF6-4413-4E9B-92DA-313970604D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36268-41B5-4713-BFC8-A1B835EF8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4218B-ED78-431C-AE5C-C680E1D7B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75B0-B8B4-41A0-9939-7286383D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628-6608-46AD-A07A-88B6DAE0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23848-D265-41A3-9BB7-A1E3638C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9CC4-B1A2-48A3-A9B2-F40BC7A2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CAAF5-047F-48D1-A73D-F62F1C4C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48C6C-DCA3-4851-87DA-BF777D8C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4092B-2734-4887-849C-EA1BBF7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9711F-7FC5-4811-88AB-36C22EE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5123-5649-4EED-895B-30F74FBA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F5198-87BD-454A-BDE6-27E13EE0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9E5E9-9DB4-4B2D-AF63-A4A4E005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BD8CC-3FE6-4E24-AA87-B11A7E0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013-9076-4DE9-BFB4-2789B24B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8EF5F-BD40-48EE-AEF6-4D43D5F0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3E993-8658-4205-9444-7912EF0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C43576-6671-4FAB-B992-29B35764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9B35E-1B94-4155-9205-FBC3D646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0F11A-01E5-41F4-9D40-9919D949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AE70C-D13B-48C6-9D82-F4C0C1A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715D0-75EC-4700-ACC2-65CCE60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F39F4-41A7-4BF9-A162-0FFBE512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3AFD7-F6E3-43C8-A491-6D51C689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66B83-0DE8-4DA6-BED3-FD5191F0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6C4-CB7D-4471-86A8-CAAEE034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1E64D-31DA-4587-A6CE-33C3D66E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6ACEA-866D-48DF-9D4C-2592E4AB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F120C-73F0-446C-A39D-43BBC4D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AC99-ED3C-4047-BB34-9C1E1FA9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9444C-015D-4C7E-8F7B-C0B33137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D0D73-78E5-4F78-A603-16E53250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02D9-9B5C-4A0F-846E-6C2FF06D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3C74C-76E5-4706-B083-569E352C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D0088-9873-4972-8253-CD65B4B7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FA1CF-1931-4C4B-91F5-C181A8F1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7491-A427-4047-A66C-EC0EA89A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F0948-A2FD-4193-88B7-C2221B19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FE1F9-DB19-47CF-AAC2-A863DA1D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61215-5D71-47E2-8BFF-3CDE231D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8F07E-74E5-45B0-AD8E-E46D56B6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0FD28-DA43-4B9F-AD67-01D7A2E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CF79C-1F34-430E-92C6-C8C2C3D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61AA6-34AE-477F-AD7D-F04AE7DB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7B52A-ECA6-4065-9B2D-158433A3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EE42B-1EB9-4838-9169-1607B487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4461F-36F3-487C-92B6-BEAF9A5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6F88-35FA-4A5F-9AE5-12D649D3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72EF7-0DF5-494B-9362-647DECA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27E6E-0FCE-4E06-B3C7-EEB17DBD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FB3A4-D4C6-4215-A65C-15FF9378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A06F8-7467-4E49-9916-8017E57E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10EBD-1AE3-4232-9F88-18389AFF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D3F4-EFC9-4E41-BF8E-35604022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B5B-0E99-4B60-BF72-AF0891B5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165-7AC6-47C8-BC72-BE9F8D18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C2DA-C515-4111-A7F4-A1467D84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53AD-ABB4-48B3-900F-81232B48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3F95-9A99-41B5-BE36-C7DD9011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3373-0A16-4608-B64A-46AAF2D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5F1E-84DD-4461-A001-84A54A6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465C-8A6F-4DA4-84D8-D8F48682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C1F9-A399-4E4F-AAEE-DBF96271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CA6E-2973-4A7F-AFB4-0A08B6FA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775FA-847A-4915-AB84-E48A549D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E6FF-901D-4A82-B6F0-CD8C0835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75508-6EE7-4353-9001-1DE283E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7FC42-A6F6-4DC5-8D46-F6B04632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66E2-B24A-4B91-A234-80308B10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E59-240F-4741-BE2C-787AE1F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A152-1E45-4B12-B686-21F8994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F294-F400-4DA3-AB20-AB9091D1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1642-A25B-4A96-BDF6-7195A785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871F-62FF-4BC1-905B-DAF6AE69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2E1BC-D918-45FE-8DFD-137B3F9C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4A1F-1373-4DED-9CC2-83E316F8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DF1E-6E05-406E-871B-D8E3CD2C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795CE-212B-43CD-B5D6-EBE77DA0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F9F34-CC05-4948-9CFE-8523F54D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AE24-576B-4B48-AC5A-1820E099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B85-9356-4DED-83AB-680E6A52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D85F-E548-480F-B17B-B8FCE2B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F23E-7BC4-4D44-9107-E68FEB23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85934-AFE9-44FC-ACD5-71E3FF1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34DE0-3C15-43A7-A5AD-CDF05E8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C120-373A-44C8-B79C-17EF71E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02CF-867E-431E-A492-459DF94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1B9B-63DB-4DFF-B036-C64DBBE0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CB05-21BF-4E9E-A359-2C799B07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3832-64A0-44D7-A368-F5DD0541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C37B3-AFA9-42DA-84A4-0E689937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D5D-9032-4D6A-AFF4-AB96CC51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7472-814E-4C39-BB40-2DFBC45F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A2CA-02A8-4352-8EB7-497C838C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32EA2-05CD-4BAB-9E65-8F1AEEDD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EF255-802D-438B-A4F6-38AD7452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BE56-26E3-4D7B-97AE-EF990010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7F1E1-33F8-40C0-948A-E3CCB20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273A3-A3A0-4883-8373-92394AF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B26C-772C-488F-91D2-D5BCF234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593F4-E0FB-4A9B-843C-C3AF588D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E8AEC-6C76-4428-9887-8C4E14BC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723-B6C8-42A4-B1A9-5A144F2D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5AA71-B733-4264-A492-D9584B2A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43C75-8DD8-41ED-9430-0CB382DD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BAB7-C67A-4546-9FA1-231A007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C83D0-620D-47AB-801D-CE7F9EF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B9F37-A113-4160-B913-8ACA8A63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7443-B0E6-40F1-90F2-B24C1231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97776-CCF5-4538-ADA1-AE02D775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67DBD-A2A8-4431-8F4D-FAC28CA8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A5DE3-9A4C-4143-AB0D-B3FECF9B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C8798-B06E-4E79-A1E6-B215070E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D608-BBEE-4C3B-87A7-931BEE06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B0F39-65D3-40B2-AB9C-0F490856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F1BC6-1ECD-446A-A358-B5FA2B55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F96CF-75B7-4532-9550-1715D264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D2D7B-A59F-4B46-A7D2-48970F4C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7225-7A42-4A5F-9D98-74D5854C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D5BE0-8CDD-4BA1-B728-37618C45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99CFF-DDDF-4132-AAA0-016F7585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6333D-6724-46D8-BF33-CB08ACB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9037A-D890-42CB-A4C7-823B61AF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4E70-60BF-429C-9F5C-BD6AE58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1E6-9473-4B96-966B-DB4EC2DF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838C6-5342-40A6-A97D-2CA5AF4A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6A575-7FE1-4756-819C-8ED3E4A6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BA04-4E91-47DD-9978-D113405A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AD03-B568-455B-A713-15830AC0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7AC7C-3F83-4244-87B7-9E7A48FE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C0D19-846A-4FA8-825F-14FF8B6A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C93F6-D70B-44ED-BAC7-74E92773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04853-4222-40E1-9FE3-369FA16B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7E9BD-7693-4AFF-9846-42EB263F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D6575-520E-47E9-9EE2-F9B1EFA4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1945-DF07-4C86-9DB7-BCFFF7F5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B3253-5D1C-4C62-9514-C4A69F86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64550-397F-4219-A6CD-6A006EF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4D076-22C5-4919-A91D-D4C7858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F80D0-0A7F-4527-BC1B-8E054B5A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F5E8B-917B-4CD7-96CE-6FDD5A4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BAE69-3FA4-453E-8FEC-E3FF9573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183B-60AD-48DA-955E-5B06B289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BCA45-7800-412D-AEDB-97F13E63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0554E-148A-4285-B438-DBBAA58B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4A8C2-CF43-4324-9103-609427C9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7C862B-27A0-454F-86E7-25CF1F2BEFC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FEFBB-1F76-4DD0-8393-E78217514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2FB00898-4D6E-4CB4-9F83-40C66A9ED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6279B-F300-4156-88AF-C9ECD7BC89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36AD4-E904-4045-9BB0-A09304674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D621C-BC6A-427C-8D08-794CC6C5A6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7BF0D-58FC-473E-829E-AF6A9EA71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EE42A-255F-4387-8E94-E952D1A28E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853A-C73D-4C62-9CFE-85A080C29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92933-A025-4002-854A-AEC41E8623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B6750-3918-4C51-9F9A-A1A5E0C64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47809-3BF0-4878-B83A-2F2BC4C192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EA461-4248-448D-BF88-F8F72617E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915C4-3C87-494F-A55F-5C248BF0023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A4B072-ED10-4319-904F-7A51D50D6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9B13E-DBA5-4A94-A66D-0371014FE0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0B95E-DD14-4F7F-81D2-29A28A74C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E63C2A-9FCB-4CF1-BAC2-A9204247AB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ABCC32-1B85-4E37-BB9B-084082CDC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71CCE9-FF3C-4CAD-B70A-A551A86003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355CE-DEC8-45E8-AFCD-EE9BACAE4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C9D1C-3AB2-4B2E-BB7C-7CD9140165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9ABFD-0F11-42E8-9E5A-91F3AF9C0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BA45E-5899-40A4-B377-51D18CF66E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B0E10-5C6D-4DB0-9013-A91DE6593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irucka-pro-prijemce-op-vk-verze-4-platna-od-30-6-2010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6684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</a:t>
            </a:r>
            <a:br>
              <a:rPr sz="3600"/>
            </a:b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53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672F1-5682-417C-9618-BEBFAE93C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538280" y="1746360"/>
            <a:ext cx="6249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5FDCD-599A-4770-B10D-CBE8C69CB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rcRect l="0" t="22844" r="0" b="0"/>
          <a:stretch/>
        </p:blipFill>
        <p:spPr>
          <a:xfrm>
            <a:off x="2103480" y="1595520"/>
            <a:ext cx="4957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9A101-7AF0-4704-9928-153A8D17A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rcRect l="0" t="20531" r="0" b="0"/>
          <a:stretch/>
        </p:blipFill>
        <p:spPr>
          <a:xfrm>
            <a:off x="2255760" y="1459080"/>
            <a:ext cx="4451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1C048-D60F-485B-8AB9-3AA5B3AAA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1"/>
          <a:srcRect l="0" t="18774" r="0" b="0"/>
          <a:stretch/>
        </p:blipFill>
        <p:spPr>
          <a:xfrm>
            <a:off x="2475000" y="1373040"/>
            <a:ext cx="421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055D3-13ED-4B6C-B536-8BD8AD91D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rcRect l="0" t="0" r="0" b="46962"/>
          <a:stretch/>
        </p:blipFill>
        <p:spPr>
          <a:xfrm>
            <a:off x="588960" y="1415880"/>
            <a:ext cx="4151160" cy="31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2"/>
          <a:srcRect l="0" t="67407" r="0" b="0"/>
          <a:stretch/>
        </p:blipFill>
        <p:spPr>
          <a:xfrm>
            <a:off x="4556160" y="3852720"/>
            <a:ext cx="437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8F17B-953C-4E77-A00F-D5560273E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rcRect l="0" t="28022" r="0" b="0"/>
          <a:stretch/>
        </p:blipFill>
        <p:spPr>
          <a:xfrm>
            <a:off x="2152800" y="1535040"/>
            <a:ext cx="5441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302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 projekt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E970E-E2F5-4D81-8A21-8B7137726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25624" r="0" b="0"/>
          <a:stretch/>
        </p:blipFill>
        <p:spPr>
          <a:xfrm>
            <a:off x="351000" y="1490760"/>
            <a:ext cx="4505040" cy="360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3"/>
          <a:stretch/>
        </p:blipFill>
        <p:spPr>
          <a:xfrm>
            <a:off x="4600440" y="2498760"/>
            <a:ext cx="4411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klíčových aktivi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1D086-5777-488F-AE69-AFE870434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rcRect l="0" t="30100" r="0" b="0"/>
          <a:stretch/>
        </p:blipFill>
        <p:spPr>
          <a:xfrm>
            <a:off x="2008080" y="1531800"/>
            <a:ext cx="5578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D22F3-C478-481C-BFE4-78B44C741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rcRect l="0" t="21759" r="0" b="0"/>
          <a:stretch/>
        </p:blipFill>
        <p:spPr>
          <a:xfrm>
            <a:off x="2381400" y="1414440"/>
            <a:ext cx="4849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302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Změny v monitorovací zprávě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BEFF3-83CB-427B-B4BF-81C115A2D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2033640" y="1433520"/>
            <a:ext cx="5043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projektové žád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22781-6133-4965-A380-2148239428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D0B30-18C6-4706-8D20-6C2EEFBA7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2666880" y="1430280"/>
            <a:ext cx="3440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31F06-EEE9-4B0B-9542-9CCFBD01D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675360"/>
            <a:ext cx="628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371600" y="1382760"/>
            <a:ext cx="6283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Čestné prohlášení statutárního zástupce jako pevná součást tištěné verze monitorovac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dpisový vzor osob oprávněných k podepisování a schvalování dokumentů a operací v rámci projektu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FAF41-4C78-4FDF-BAC3-BFCFDB6C0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440" y="480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20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55FE3-93A0-4BD2-8602-E7E0A8FC2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"/>
          <p:cNvPicPr/>
          <p:nvPr/>
        </p:nvPicPr>
        <p:blipFill>
          <a:blip r:embed="rId2"/>
          <a:stretch/>
        </p:blipFill>
        <p:spPr>
          <a:xfrm>
            <a:off x="633240" y="1212840"/>
            <a:ext cx="7709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prirucka-pro-prijemce-op-vk-verze-4-platna-od-30-6-2010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11138-51B7-48DC-A812-12CB9F4CB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76CCB-F577-4B12-BB51-05D77F517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07F05-9448-4FEE-BC98-4DB4A9F24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E24D1-A6C1-4029-B466-C9CDD234D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767DD-D9C6-441E-B408-04D174F72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 7+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vytvoření monitorovací zprávy v B7+  s technický i metodickým postupem bude uveřejněna na webu MŠMT na přelomu měsíce ledna a úno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budou uveřejněny na webu MŠMT ve stejné 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877309-18AA-45E3-B8FE-B6878FF91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649C7-632C-4FEE-A8C6-1AB3867C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2724" t="11681" r="3377" b="10612"/>
          <a:stretch/>
        </p:blipFill>
        <p:spPr>
          <a:xfrm>
            <a:off x="642960" y="1158840"/>
            <a:ext cx="7651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0280" y="966960"/>
            <a:ext cx="78152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8252C-1457-45DE-85FD-57024534F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1"/>
          <a:srcRect l="0" t="0" r="0" b="32472"/>
          <a:stretch/>
        </p:blipFill>
        <p:spPr>
          <a:xfrm>
            <a:off x="369720" y="1392120"/>
            <a:ext cx="4759560" cy="4006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rcRect l="0" t="67243" r="0" b="0"/>
          <a:stretch/>
        </p:blipFill>
        <p:spPr>
          <a:xfrm>
            <a:off x="3886200" y="3591000"/>
            <a:ext cx="5091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říjemci, kontaktní osobě a zhotoviteli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29711-C5D4-47B9-8599-35BF7D06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rcRect l="0" t="0" r="0" b="30166"/>
          <a:stretch/>
        </p:blipFill>
        <p:spPr>
          <a:xfrm>
            <a:off x="465120" y="1746360"/>
            <a:ext cx="4788000" cy="34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2"/>
          <a:srcRect l="0" t="73928" r="0" b="0"/>
          <a:stretch/>
        </p:blipFill>
        <p:spPr>
          <a:xfrm>
            <a:off x="4151160" y="4332240"/>
            <a:ext cx="480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8T07:29:04Z</dcterms:modified>
  <cp:revision>295</cp:revision>
  <dc:subject/>
  <dc:title>Titulní strana – Titulek</dc:title>
</cp:coreProperties>
</file>